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930-83CA-4EB2-89FF-3A8E13E5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79C-3C9C-4782-90B7-8967BC03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8A3-9DE1-4129-B62F-691AACD7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685E-C502-4519-8207-0F9A0AD5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DF5-4412-4BD1-9D8B-AEB985D6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224-E8AF-41B7-9146-82B58AFC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47E5-EBB7-488C-89B9-42547270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AB8-D779-4575-BA11-C030E529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589-1B60-4BDF-AE6E-1E9A0362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AB2-4295-492D-995A-6FBB84AE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EB4-A0E7-485E-9F0B-69602A17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222-D351-46B7-B067-432885E7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4D68-215B-45F0-B245-5A05FE449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696080" cy="29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ive Communication between parents and their Children with Mild Emotional Behavioral Disorder (EBD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rina B. Tong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e Andrea M. Ag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unit will teach the children with special needs the importance of having a good and effective communication with their parents. And for the children to have a feeling of security in terms of their individual condition and educ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-Fram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is subject unit can help you as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ild to your parent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 what way effective communication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better understan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hat are the possible difficulties that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may encounter in studying this un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iculum-Framing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can you define eff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at are the differences and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ities of the thre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ski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21:33:55Z</dcterms:created>
  <dc:creator>nave1386</dc:creator>
  <dc:description/>
  <dc:language>en-US</dc:language>
  <cp:lastModifiedBy>X.U</cp:lastModifiedBy>
  <dcterms:modified xsi:type="dcterms:W3CDTF">2010-09-20T06:44:05Z</dcterms:modified>
  <cp:revision>3</cp:revision>
  <dc:subject/>
  <dc:title> </dc:title>
</cp:coreProperties>
</file>